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2.xml.rels" ContentType="application/vnd.openxmlformats-package.relationships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8F16-B9B8-4B5D-8B5C-9348705EFEF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9894-7199-4451-B0C2-E52AB684205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3943-453B-44F7-B426-B2BCEE906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8C35-E664-4923-ACBD-ED555F44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BFA0-48F5-4064-A998-107B25B0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6BFC-4FB1-4294-946E-16B59082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2605-87D2-453A-9D49-C8A57358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214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F5C5-227C-4C7E-9A4D-D161CB25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A229-0D9C-438E-8646-DF799A6E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2971-9F8F-4FF8-83AC-291F11F8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66B7-BFBA-46F2-88B0-DF68EB8C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93C6-B813-4766-908A-4C541D0A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BF3F-078C-4D27-AD7B-6920575A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9581-D922-481A-A26A-FC1D02AB9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214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489E-45E4-4527-8EEA-FE7EA193214D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EC34-DD31-4705-8CDF-2E0CA6D1E885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едавање бр.5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НОВН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ИОХЕМИЈСК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ПАРАМЕТРИ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ДИЈАГНОСТИЧК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ТОД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СТОВИ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685800" y="9144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Интегрисане ак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демске студије фармације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2362320" y="6858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Клиничка фармација 1 – Г03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5F73-39CA-4D90-800C-59BAF31FDD2D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абораторијс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јагно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гл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ој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ве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ћањ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им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абораторијског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нас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временој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иничкој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иохемијској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абораториј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ој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полагањ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личити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стов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дишњ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им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машу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лион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8932-6FFF-494E-95E9-93D82E209BD5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ирок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екта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абораториск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стов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довољ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нава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њихов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рактеристи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вара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алн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аснос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 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кс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рационал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њу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адекват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рпретира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диц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довољ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муника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ар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иохемичар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лик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рој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потреб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рађен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али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ак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машу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ошков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абораторијск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итива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реал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сок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ос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ошков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ч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4B25-D2F1-4E1E-ADA7-ABA8AFA735BF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374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тпун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ис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рактеристик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једног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ст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ухват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лик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рој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формациј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228708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нцип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алитичк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рактеристик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цизнос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чнос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етљивос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ецифичнос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неарнос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јагностичк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рактеристик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етљивос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ецифичнос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иктив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рферен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аналитичк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алитичк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ферент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рв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рст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зо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а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CCA9-60B2-4ABA-9C84-DA92AF529B34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1143000"/>
            <a:ext cx="86374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дика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ишће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утинск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ст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лу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ар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бор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стов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ринин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јагноз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ће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стављ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итич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ита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абораторијској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кс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хтев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алитича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ступ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амнез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изичк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гле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циј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актор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ређу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дика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ишће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стов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јагностич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рактеристи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валенц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пулаци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јо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цијен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па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A362-3807-4776-B850-19F792FB6A9D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ри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ме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тински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стов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огн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кар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јашњавањ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цијент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лаз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тинск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ст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бр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јагностичк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рактеристик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иск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валифику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отреб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јагностиц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г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ринин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B1B9-261B-40C2-8641-1AEEDEFBFE39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1280" y="1218960"/>
            <a:ext cx="88027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марн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лог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крининг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стов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ровер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здравственог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та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имптоматск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об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стематск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гле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удноћ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дређивање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фактор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ризи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станак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имптоматск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об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зичн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у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Детекциј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или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искључивање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групе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боље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цијена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мптоми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ринин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тр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иље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јагности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мер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ецифичн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абораторијск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руг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јагностичк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цедура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ил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рационал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рект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н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FDD4-1D23-4CA2-82D8-76DD83A43230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637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тинск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ринин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стови к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симптоматск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ције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0" y="1789200"/>
          <a:ext cx="9144000" cy="4370400"/>
        </p:xfrm>
        <a:graphic>
          <a:graphicData uri="http://schemas.openxmlformats.org/drawingml/2006/table">
            <a:tbl>
              <a:tblPr/>
              <a:tblGrid>
                <a:gridCol w="2155680"/>
                <a:gridCol w="698832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Рутински</a:t>
                      </a:r>
                      <a:r>
                        <a:rPr b="1" lang="sr-Latn-C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те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Индикације</a:t>
                      </a:r>
                      <a:r>
                        <a:rPr b="1" lang="sr-Latn-C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о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ивањ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љењ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брег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инарног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КС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летна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вна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ка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екцију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емиј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ритроцитоз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цитемиј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B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екцију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ламациј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екцију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кључивањ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еморагичних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емећај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ишен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ематокрит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ор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зик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јаву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онарних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чаних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љењ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јабетес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862B-1F4F-431E-A79B-08547925AA29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6160" y="685440"/>
            <a:ext cx="8637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тинск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ринин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стови к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симптоматск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ције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0" y="1828800"/>
          <a:ext cx="9144000" cy="5059440"/>
        </p:xfrm>
        <a:graphic>
          <a:graphicData uri="http://schemas.openxmlformats.org/drawingml/2006/table">
            <a:tbl>
              <a:tblPr/>
              <a:tblGrid>
                <a:gridCol w="2519280"/>
                <a:gridCol w="66247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Рутински</a:t>
                      </a:r>
                      <a:r>
                        <a:rPr b="1" lang="sr-Latn-C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те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Индикације</a:t>
                      </a:r>
                      <a:r>
                        <a:rPr b="1" lang="sr-Latn-C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диментација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екцију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ламац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Б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бриноген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екцију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утн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з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ламациј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итивањ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гритет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емостаз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катор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зик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љењ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теријских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вних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ов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утни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аркт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окард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дани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ар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коза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екцију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јабетес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ак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ин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,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зичних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шћ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2F8F-C3E1-4870-A212-8A56D7E2629E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6160" y="685440"/>
            <a:ext cx="8637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тинск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ринин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стови к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симптоматск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ције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1714680"/>
          <a:ext cx="9144000" cy="5045040"/>
        </p:xfrm>
        <a:graphic>
          <a:graphicData uri="http://schemas.openxmlformats.org/drawingml/2006/table">
            <a:tbl>
              <a:tblPr/>
              <a:tblGrid>
                <a:gridCol w="2362320"/>
                <a:gridCol w="678168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Рутински</a:t>
                      </a:r>
                      <a:r>
                        <a:rPr b="1" lang="sr-Latn-C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те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Индикације</a:t>
                      </a:r>
                      <a:r>
                        <a:rPr b="1" lang="sr-Latn-C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1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Н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атинин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екцију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утног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ањењ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зин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омеруларн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лтрац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лцијум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сфор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екцију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ерпаратиреоидизм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ак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ин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0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ин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ључујући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ењ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ин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еопороз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жин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ничн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еркалцемиј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ји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зик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олитијаз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лестерол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глицериди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о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ивањ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зик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еросклероз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,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аких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AB65-2E07-4364-98EA-A46C911FB2CC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6374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тинск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ринин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стови к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симптоматск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ције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941480"/>
          <a:ext cx="9144000" cy="4075200"/>
        </p:xfrm>
        <a:graphic>
          <a:graphicData uri="http://schemas.openxmlformats.org/drawingml/2006/table">
            <a:tbl>
              <a:tblPr/>
              <a:tblGrid>
                <a:gridCol w="2666880"/>
                <a:gridCol w="6477120"/>
              </a:tblGrid>
              <a:tr h="64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Рутински</a:t>
                      </a:r>
                      <a:r>
                        <a:rPr b="1" lang="sr-Latn-C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те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Индикације</a:t>
                      </a:r>
                      <a:r>
                        <a:rPr b="1" lang="sr-Latn-C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801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н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отрансфер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п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т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отрансфер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екцију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кључивањ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епатобилијарних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љењ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T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вр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катор 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љ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њ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ц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мишић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re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виру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нистичког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глед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ерурикемиј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ректан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ор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зик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танак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емијских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љењ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о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ор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зик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отилијаз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0DAA-D2CC-40AB-B624-0A5E830E2324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Шт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иохемиј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иохем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у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емијск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став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ив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ић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емијски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мена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иви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ићи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иохемијск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ук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учавај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род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емијск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стоја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ив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ћел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емијск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извод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ив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ћел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ункциј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ансформациј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емијск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пстанц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иви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ћелија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емијск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нергетск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ме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веза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ивот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ункциј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ив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ћел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иље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познав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оби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тегрисан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ивн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ћел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оби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м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ај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једи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емијск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ституен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мен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емијских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изичк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емијских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од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иј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зултат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принос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тављањ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јагноз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ћењ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рапи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к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лест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4ABF-F0F1-43E9-8474-316A837FF67A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ољ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цијен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д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ољењ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ас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ражен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мптоми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ас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абораторијск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стира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ис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тврд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јагноз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вентуал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ференцијал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јагно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це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епе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ољ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крив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лик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гноз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хо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ч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A481-C3EB-4EF4-AEA9-B5DD3946F640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ољ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јасни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мптом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њег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нзитет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абораторијск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стов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ај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лог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мањ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сигурност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глед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цијент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огн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кар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з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ношењ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дицински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л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2616-06B5-4273-BA35-C0B2C4C14ABB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ољ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јагноз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љењ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рининг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тински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стов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рист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г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стов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индикован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ед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ћи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мпт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AF17-D739-486A-B4D8-65603A4BFDEE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мпт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ремећа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лцију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јбројниј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дика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његов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ређива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шћ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ил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руг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утинск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с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ронич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хипокалцем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мпт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венстве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уролошк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уромускулар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тан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ча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ритм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стинал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чев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ронич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хиперкалцем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уролошк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мпто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авља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мптом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за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лцифика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ж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вн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дови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ући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лудц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лкулоз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ринарн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а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65AC-DA6B-444E-A149-9E9D40B9ACAE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723920" y="1904760"/>
            <a:ext cx="4257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нижених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ипопа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дизам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ип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буминемија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ронична болест бубрега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фици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D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нутри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вишених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иперпаратизоидиза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јел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 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зирајућ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цином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коид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ови: тиазидни диуретиц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тијум, витамин  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плементи калцију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6. Лекови: калцитонин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ифосфан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ротоксик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71A5-457F-4560-B8BF-9C6222E07BBF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емећај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органског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сфор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јављај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сти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убрег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атироиде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шић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абос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лапсорп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тами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6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BFFF-4602-4F4C-9F94-80BE40B662C9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вишен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убреж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суфицијенциј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попаратироидиза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мар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тињство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комер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зим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итами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ра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лцију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нижен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перпаратироидизам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фици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итами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лапсорпциј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в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лукоз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пералимента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перинзулиниза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убита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сфа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рин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анцониев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ндром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сулин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јабетич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етоацидоз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хити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FDBC-F61B-4531-9295-9CA767B1C9B8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9414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налн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к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ндокрин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ипертиреоидиза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фици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нералокортикои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ређива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трију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дикова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уролош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мпто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мпто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ме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луме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кстрацелулар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чно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ме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уг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лектроли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ме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цидобазн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ту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ча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компенза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хра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л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6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71B2-E6D5-4CB9-A7C2-283EBFEFD92A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вишен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хидрата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јабете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сипидус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убита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И течнос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ов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љ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убита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уте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ж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екоти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оје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пералдостерониза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ингити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жда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да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ау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урохируршк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хва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нижен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понатријем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иро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емодилу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рча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решк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убита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трију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штеће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убу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уретици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суфицијен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дбубреж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ојењ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аж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понатријем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перлипидемиј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већ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ру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те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2C3A-9308-4F56-AF53-BA2309344BFC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ређивањ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лорид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дикован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ков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ремећа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ланс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трију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ремећа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цид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з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внотеж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уре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ча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суфицијен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73EC-D9DC-477D-92C8-55B10387D39D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абораторијск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јагностик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некад</a:t>
            </a:r>
            <a:r>
              <a:rPr b="0" lang="sr-Latn-CS" sz="3200" spc="-1" strike="noStrike">
                <a:solidFill>
                  <a:srgbClr val="c00000"/>
                </a:solidFill>
                <a:latin typeface="Arial"/>
              </a:rPr>
              <a:t>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лик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ро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остал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ђусоб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завис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аборатор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иохемиј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ематоло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итоло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икробиоло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уноло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рмон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ксиколо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тофизиолош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в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абораторија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вија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о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нуел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со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литич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е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4D4E-B71F-4B28-AEF3-2AF6934E2650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2287080"/>
            <a:ext cx="4267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вишених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уготрајна дијареја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штећ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бреж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убула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иперпаратироидиза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хидрата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нижених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уготрај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раћање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екотине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бреж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убитк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ли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јазиди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76F3-CE6E-4A69-9D7E-3380506AB5A0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ређивањ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лијум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дикован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шићн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абост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ипертензи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чан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ритми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јаре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раћањ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емећај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ги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лектролит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емећај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цид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зн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внотеж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нални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н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уретик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чан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компензаци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еко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6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BF42-A277-492D-B0F3-11301E7A2318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вишен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с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убрежн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ломерул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дренокортикал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суфицијенциј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јабетич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етоацидоз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комер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травеноз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лијум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п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нижен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с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убрежн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убул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пералдостеронизам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лнутрициј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јабетич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етоацидозе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перинсулинизам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таболич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лкалоз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уретицим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убита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астроинтестинални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акт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7666-DB85-4D2D-B688-937368E6A54C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TP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к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ни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отеин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total prote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ређив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кова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ремећа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нтез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теи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фици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утрицион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те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лапсорпц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те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ндро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убљ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те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ест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више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сти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уматичн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мпто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дређе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окализац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емораг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аум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шо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лигн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цијена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тензивно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з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утн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роничн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етр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убрег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6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A1CB-6870-4F1D-841F-6D91DC9B44CF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вишених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хидратација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ронична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јел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g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g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ркоид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8320" y="2287080"/>
            <a:ext cx="44956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нижених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комер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идратација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суфицијен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тре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лнутриција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јел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гамаглобулинем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лигност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фротск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ндром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нтеропат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убитк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те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6DF7-BAA6-4D18-83DD-56CB0ED413B9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ALB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лбумин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ређивањ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буми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дикован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итивањ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дематозни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6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1945-54E8-4068-B9DE-2B1B35827114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ALB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лбумин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вишен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хидрат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нижен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убреж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с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фротск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ндр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убитк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теи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рином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суфицијен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етр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мањен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нтез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лбуми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ш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лнутри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ут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пал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ронич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па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удноћ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екоти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68D3-56D2-4EB4-8FE1-7DEE7138AC93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GLU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лукоз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ређивањ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укоз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дикован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иур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идипс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убит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ж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мпто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ип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ипергликем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6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65A1-BD5C-449F-9DB6-2970447D5E5F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GLU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лукоз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вишен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јабете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литу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нкреатити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ндокри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ремећаји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ков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ероид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ијазид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ал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трацептив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ронич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штеће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убрег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ес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травеноз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фуз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лукоз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прандијал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питив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нижен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сулином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дренокортикал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суфицијенциј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кстрапанкреатич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плазм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шк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ље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етр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зумир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лкохо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ункционал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погликемиј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дијабетич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погликемиј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ликогено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ворођен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A1EE-9910-40BD-8C5A-9DC06BF94ED0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TBIL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купни билирубин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ређу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јагноз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ут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5AEA-5C95-4169-9F48-AB20EB74A9AA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86374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абораторијск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јагностик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сад</a:t>
            </a:r>
            <a:r>
              <a:rPr b="0" lang="sr-Latn-CS" sz="3200" spc="-1" strike="noStrike">
                <a:solidFill>
                  <a:srgbClr val="c00000"/>
                </a:solidFill>
                <a:latin typeface="Arial"/>
              </a:rPr>
              <a:t>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ционал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рнационал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ндардиза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љ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валите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агена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правље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литич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м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јагностич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рактеристи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ојећ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начај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ж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литич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е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реда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утоматизаци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абораторијск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тинск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кс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веде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в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од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ка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ављал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со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ецијализовани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од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лик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реда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варе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ематолошк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лизато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време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пара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с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ројач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в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ћел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г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ред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њихов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рфолог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6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F75F-3E9B-4D85-9F83-7E7676F7750F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TBIL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купни билирубин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вишен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суфицијен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етр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кстрахепатич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струкциј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емоли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ворођенче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сле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н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зро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зиолош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пербилирубинем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илберто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с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5ACE-5B44-4B00-89F2-375A75270121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иференцијалн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ференцијалној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јагноз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ис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утинск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стов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еатинин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re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it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ференцијаци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зотем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утамат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хидрогеназ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P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лкалн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сфатаз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ференцијаци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епатобилијар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ол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ктат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хидрогеназ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ференцијаци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утиц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епатич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емолитич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P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активн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теин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ференцијаци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флама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кробиолошк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стов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с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гућ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о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уноглобулин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ференцијаци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ронич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т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F8D7-D505-4A8E-AB10-BEEFFCB3FFFA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иференцијалн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итној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ужб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ференцијаци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утн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абдоминалног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бол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поручу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едећ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стов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AMIL,ALT,AST,TBIL,GLU,KK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троли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сута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б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л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 u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груди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датно се ради CK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еати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аз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епсе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е одређују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P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6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828E-25ED-4C24-B4FC-FF66F6AC114B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CK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еатин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иназ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вишен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фарк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иокард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гресив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ишић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строфиј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рматомиозитис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перосмолалнос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лирију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еменс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вулз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пилептич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потироидиза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руршк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хвати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тензив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зич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ивнос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трамускулар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њекц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2057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нижен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зич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активност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мање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ишић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с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6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81BA-2069-425D-893B-CDAD68D3A114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MIL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милаз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вишен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нкреатитис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форирајућ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нетрирајућ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и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елуц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ут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зим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лкохо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с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ливар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ушк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па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струк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нкреасно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на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ш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с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убрег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ме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учн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нал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аза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учно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н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нижен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ш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им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струк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нкреас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ж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суфицијен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етр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6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6A54-AB49-4FDC-9BAA-C75BBDE1364D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LP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лкалн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осфатаз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вишених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рахепатич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леста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кстрахепатич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леста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еобластич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с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умо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ва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лкал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сфатазу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удноћ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нижених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ипофосфатем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т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6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A5A7-7F61-458D-B25B-1DE35213089D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GGT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ам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a-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утамил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нсфераз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ишених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епатобилијар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ести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жива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кохол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зима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ов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енитои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енобарбитал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нижених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тк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а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6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D80D-5678-4D82-99AA-ACD575662723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AST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сп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тат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инотрансфераз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вишен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епатоцелулар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штеће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ирус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епатити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ксич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епатити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шо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етр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лкохол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епатити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фарк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иокард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емоли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ив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с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елетн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ишић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фарк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ућ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хепатич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илијар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струк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нижен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рминал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дију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с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етре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ронич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емодијализ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удноћ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6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EC86-DC34-4E64-8350-BCD6CDA86402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ALT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ланин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минотрансфераз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ишених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рус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епатити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ксич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епатити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о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тр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фектив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нонуклеоза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лкохол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епатити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имиозити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нижених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рминал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дију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тре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бреж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емодијализа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бреж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суфицијен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56D5-23DF-4317-A087-4AAF6055C316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ћење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8680" y="2666520"/>
            <a:ext cx="820872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бор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стов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цијенат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јагностикованим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ољењем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рх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ћењ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к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рапи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вољан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један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EF16-7965-4728-A376-D349A75314AD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в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унохемијск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од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луоросцен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уминисцен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 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отреб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времен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стов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иж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со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алитич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етљивос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рз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ч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реди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аметр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в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аз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о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ској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центрациј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рмо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личи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тите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тиг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умо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рк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B9FA-2676-4A8A-B387-8D4471DFBDC4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-360" y="2438280"/>
            <a:ext cx="8769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ловни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актори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зик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ишени триглицери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ишене мале ЛДЛ честиц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ишен хомоцисте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ишен липопротеин Л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ишен фибриног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ишени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фламаторни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ркери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активни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еин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0" y="990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абораторијски параметри који се користе з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цену стања кардиоваскуларног систем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08E1-8237-42E3-9672-F9A0593FD4A7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5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иохемијски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рдијални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рк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купн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PK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CK (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атин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сфокиназ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н киназ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оензим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оформ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оглоб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опонин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актат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хидрогеназ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a (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D496-7A37-4373-B70C-2B0345724E4D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ћење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ћењ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ис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едећ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утинск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стов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ћ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рап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јабете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јав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иполикемич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мпт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ћ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фека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екци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зе антикоагулант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рап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креатитин 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ћ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цијена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нални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ољењи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рапи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фротоксични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ов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B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холинестераз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ћ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цијена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ронични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ољењи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т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E6A2-86C4-4F42-9D7A-5FB918F8A9E5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ћење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ћењ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рист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едећ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тинск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стов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гноз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епатобилијарн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ољ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CV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P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ће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роничн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кохо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ће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диотерап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РИ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КС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R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ће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ипертенз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14D0-8499-491A-B424-7CACCFDC62DA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нтерпретациј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л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умерич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реднос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к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абораторијск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улта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б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уж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какв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фомац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улта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а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рпретабила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к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оред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к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редношћ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ос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ферентн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рва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рпрета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ил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пеш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опход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нава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лов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ј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ређе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ферент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рвал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т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ери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цијен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иј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улта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рпретир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ша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оз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аналитичк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л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421F-AAC4-40B5-B14B-FC101B28AB79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нтерпретациј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л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рпретациј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абораторијск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а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р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ћ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ита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д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в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аз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ферентн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аница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ва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ферентн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руч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јагностичк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аја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згред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ажа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вар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д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риј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а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казу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улта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ступил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ме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с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с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ај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E7E6-02D3-42DF-9525-B19CEE310E18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нтерпретациј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л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рпретациј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а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ит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ти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жњ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о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међ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ституен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зм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ћелиј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о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међ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кстрацелулар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купн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држа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л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специфич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бнормално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зиолош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рија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B2EB-86F5-44C5-B220-EF3B41BCE5B1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дицинск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ори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јагностички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оћ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ји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цењу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рфолошк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њ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абораторијск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стов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н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жан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принос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јагностиц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чењ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ест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D32F-975D-47EF-8020-5F3A3A0E1621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абораторијск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стов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заменљив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јагноз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ису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јагностичк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рмини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ипокалцем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ремећаји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ису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рфолошк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рактеристика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п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фарк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окар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ухвата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лик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рој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а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абораторијск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стов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ружају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допунске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информа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колик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гућ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ме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јагностичк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цедур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уп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гресив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циј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EFF5-2CB7-4395-B7D2-B239B89A5C4F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абораторијск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ст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рист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тврђивањ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јагноз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ћ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ће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ољ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цен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фек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рап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гно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0BC9-A02B-4A8D-94CD-58A1DE6D7A4F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абораторијск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ст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н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цен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дравственог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чајн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ређивањ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актор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изик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јав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ољ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раживачком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д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аж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јашњавањ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иохемијск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ољ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Vesela</dc:creator>
  <dc:description/>
  <dc:language>en-US</dc:language>
  <cp:lastModifiedBy>User</cp:lastModifiedBy>
  <dcterms:modified xsi:type="dcterms:W3CDTF">2019-09-12T21:43:11Z</dcterms:modified>
  <cp:revision>70</cp:revision>
  <dc:subject/>
  <dc:title>Развој фармацеутске делатности</dc:title>
</cp:coreProperties>
</file>